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A45-8603-413C-966C-DCDF7FE6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554-D898-4078-BCA2-FAA07E5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D85-1B10-4AFA-AE4A-B12CBD9F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4C7-F401-4A05-AA38-94EDCC7B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A614-3872-4B62-8C85-554C4EE3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1201-2EF6-424D-A83F-484B4774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576-31E6-4849-8E8D-0565353C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9A82-B759-4BC6-BA40-B3B1E8A4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5C5E-C7DB-414C-AF85-1BC64698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AD74-74AF-4DA3-8A86-21D2E218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E0AA-DC85-4C68-A2BE-77D5BD4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7C5-16A6-4055-937D-C042B872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9CF3-A27E-4F9A-8EFE-6160AD0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05A-E535-4B19-85FC-CA89C68A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C59B-4AAB-40A0-8AFA-128BCA37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5848-EB75-4849-BD9B-B950E0D3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6B0-80EC-4D20-BF24-E7C46839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D38-BA9E-47F7-812B-EFB114A0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ED4-4A1A-4D91-8AD2-F087BBF8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DD7-82BB-4C4B-8A76-A93E35F0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020-DA93-4E07-B3BB-78C21AF0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35E-2D24-476E-A84C-F110F79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A32-7D52-4124-8084-D07BD44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BBB-7068-45A8-BE69-F52237FF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76D3-6529-4D9C-80B6-D41AC6918B8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A8D-13C3-41FE-965C-65669711E5A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uth East Texas Fair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MT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ntertain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2320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des to ride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mper c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309760" cy="221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1800360" cy="1547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943600" y="3276720"/>
            <a:ext cx="2666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Favorite Food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rimp on a sti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ch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t d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me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ooting du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ents at the fai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de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ster tru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se 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ngs to bu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ch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nd buzz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-shir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6:26:47Z</dcterms:created>
  <dc:creator>762913</dc:creator>
  <dc:description/>
  <dc:language>en-US</dc:language>
  <cp:lastModifiedBy>762913</cp:lastModifiedBy>
  <dcterms:modified xsi:type="dcterms:W3CDTF">2009-03-18T16:20:14Z</dcterms:modified>
  <cp:revision>2</cp:revision>
  <dc:subject/>
  <dc:title>South East Texas Fair</dc:title>
</cp:coreProperties>
</file>